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B3E7-BBB3-438F-81F0-18985D6257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3F5F-06E3-47CB-9E65-4320F5ED44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7EF8-E723-4FFC-966C-DF69043989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411B-29F2-48EB-8F7F-1083045669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3206-FE5B-4A23-9122-B7053D0153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5969-19ED-4089-AF25-74567BCE8A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3A7F-3459-471C-B2CA-30A7D98EA0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91F3-2EE1-4F71-82B5-82AFAEBEC8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3D94-1B4B-4763-B413-B609A3256A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59F8-1FAA-457D-88C9-00AADEE0FC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A6D9-2E0F-4D41-AA4D-E12B3EE791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AEEF-F029-4423-87B9-48C2554911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BBDC-BF51-4C00-8D17-2F86399CC1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4B2B-8420-4A3B-8FC6-A793D37CD7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1EB-FC11-48C1-9E3E-00E28F1A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8E9-E33E-43A1-A9CB-475EDEA3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302-1D35-4FF1-A09D-18AE71A7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8FA-E671-46F3-AA95-7981041F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7E2-6509-4817-891A-7EA645F0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18A-6FB5-4D9D-81D5-BA469D92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3B5-B8A9-46EC-8871-21955582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42A-2EF3-425C-A56E-C06E5E1E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687-0DCD-4F52-AFCD-B5E4D39C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A18-DE1E-4DBB-B9B3-E1F3CA31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0EC-8DCB-4004-850E-CD3245DA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F8F-61FF-4EAD-9B27-1DD290E2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3AE9-640B-4D8C-AF95-717C94F02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jpe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1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0" y="214200"/>
            <a:ext cx="8694720" cy="440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family"/>
          <p:cNvPicPr/>
          <p:nvPr/>
        </p:nvPicPr>
        <p:blipFill>
          <a:blip r:embed="rId2"/>
          <a:srcRect l="0" t="25469" r="-1460" b="7365"/>
          <a:stretch/>
        </p:blipFill>
        <p:spPr>
          <a:xfrm>
            <a:off x="5791320" y="2286000"/>
            <a:ext cx="2895480" cy="2244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4710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nit 2  Our new ho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3"/>
          <p:cNvSpPr/>
          <p:nvPr/>
        </p:nvSpPr>
        <p:spPr>
          <a:xfrm>
            <a:off x="6154560" y="1339920"/>
            <a:ext cx="2592720" cy="576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ng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6226200" y="270828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6299280" y="184464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/i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083280" y="3645000"/>
            <a:ext cx="1152720" cy="576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7307280" y="1844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u: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7523280" y="2708280"/>
            <a:ext cx="1145880" cy="57636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o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7594560" y="3645000"/>
            <a:ext cx="1144800" cy="576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o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468360" y="4797360"/>
            <a:ext cx="8207280" cy="1512720"/>
            <a:chOff x="468360" y="4797360"/>
            <a:chExt cx="8207280" cy="1512720"/>
          </a:xfrm>
        </p:grpSpPr>
        <p:sp>
          <p:nvSpPr>
            <p:cNvPr id="129" name="流程图: 可选过程 20"/>
            <p:cNvSpPr/>
            <p:nvPr/>
          </p:nvSpPr>
          <p:spPr>
            <a:xfrm>
              <a:off x="468360" y="4797360"/>
              <a:ext cx="8207280" cy="1512720"/>
            </a:xfrm>
            <a:prstGeom prst="flowChartAlternateProcess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2"/>
            <p:cNvSpPr/>
            <p:nvPr/>
          </p:nvSpPr>
          <p:spPr>
            <a:xfrm>
              <a:off x="611280" y="5013360"/>
              <a:ext cx="56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What can you see in the living room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13" descr="living roo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347760"/>
            <a:ext cx="5184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living ro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468360" y="549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iving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living room.mp3" descr=""/>
          <p:cNvPicPr/>
          <p:nvPr/>
        </p:nvPicPr>
        <p:blipFill>
          <a:blip r:embed="rId2"/>
          <a:stretch/>
        </p:blipFill>
        <p:spPr>
          <a:xfrm>
            <a:off x="2827440" y="54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6" descr=""/>
          <p:cNvPicPr/>
          <p:nvPr/>
        </p:nvPicPr>
        <p:blipFill>
          <a:blip r:embed="rId3"/>
          <a:srcRect l="61190" t="6101" r="13235" b="54700"/>
          <a:stretch/>
        </p:blipFill>
        <p:spPr>
          <a:xfrm rot="20238600">
            <a:off x="0" y="4581360"/>
            <a:ext cx="1596960" cy="187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t012e298dcf60c1b9e3"/>
          <p:cNvPicPr/>
          <p:nvPr/>
        </p:nvPicPr>
        <p:blipFill>
          <a:blip r:embed="rId4"/>
          <a:stretch/>
        </p:blipFill>
        <p:spPr>
          <a:xfrm>
            <a:off x="0" y="189000"/>
            <a:ext cx="8893080" cy="638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u=3304028978,2480419606&amp;fm=23&amp;gp=0"/>
          <p:cNvPicPr/>
          <p:nvPr/>
        </p:nvPicPr>
        <p:blipFill>
          <a:blip r:embed="rId5"/>
          <a:srcRect l="50014" t="0" r="0" b="0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u=3304028978,2480419606&amp;fm=23&amp;gp=0"/>
          <p:cNvPicPr/>
          <p:nvPr/>
        </p:nvPicPr>
        <p:blipFill>
          <a:blip r:embed="rId6"/>
          <a:srcRect l="0" t="0" r="50014" b="4170"/>
          <a:stretch/>
        </p:blipFill>
        <p:spPr>
          <a:xfrm>
            <a:off x="-214200" y="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0.60833 0 E">
                                      <p:cBhvr>
                                        <p:cTn id="27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-0.55833 0 E">
                                      <p:cBhvr>
                                        <p:cTn id="27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38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t012e298dcf60c1b9e3"/>
          <p:cNvPicPr/>
          <p:nvPr/>
        </p:nvPicPr>
        <p:blipFill>
          <a:blip r:embed="rId1"/>
          <a:stretch/>
        </p:blipFill>
        <p:spPr>
          <a:xfrm>
            <a:off x="0" y="0"/>
            <a:ext cx="4932360" cy="3716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5703120" y="1474920"/>
            <a:ext cx="26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ng ro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468360" y="4797360"/>
            <a:ext cx="8207280" cy="1512720"/>
            <a:chOff x="468360" y="4797360"/>
            <a:chExt cx="8207280" cy="1512720"/>
          </a:xfrm>
        </p:grpSpPr>
        <p:sp>
          <p:nvSpPr>
            <p:cNvPr id="142" name="流程图: 可选过程 20"/>
            <p:cNvSpPr/>
            <p:nvPr/>
          </p:nvSpPr>
          <p:spPr>
            <a:xfrm>
              <a:off x="468360" y="4797360"/>
              <a:ext cx="8207280" cy="1512720"/>
            </a:xfrm>
            <a:prstGeom prst="flowChartAlternateProcess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611280" y="5013360"/>
              <a:ext cx="5667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9"/>
          <p:cNvSpPr/>
          <p:nvPr/>
        </p:nvSpPr>
        <p:spPr>
          <a:xfrm>
            <a:off x="1023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971640" y="51577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n you see in the living ro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living ro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468360" y="549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iving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u=3304028978,2480419606&amp;fm=23&amp;gp=0"/>
          <p:cNvPicPr/>
          <p:nvPr/>
        </p:nvPicPr>
        <p:blipFill>
          <a:blip r:embed="rId2"/>
          <a:srcRect l="50014" t="0" r="0" b="0"/>
          <a:stretch/>
        </p:blipFill>
        <p:spPr>
          <a:xfrm>
            <a:off x="485928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living room.mp3" descr=""/>
          <p:cNvPicPr/>
          <p:nvPr/>
        </p:nvPicPr>
        <p:blipFill>
          <a:blip r:embed="rId3"/>
          <a:stretch/>
        </p:blipFill>
        <p:spPr>
          <a:xfrm>
            <a:off x="2827440" y="54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" descr=""/>
          <p:cNvPicPr/>
          <p:nvPr/>
        </p:nvPicPr>
        <p:blipFill>
          <a:blip r:embed="rId4"/>
          <a:srcRect l="61190" t="6101" r="13235" b="54700"/>
          <a:stretch/>
        </p:blipFill>
        <p:spPr>
          <a:xfrm rot="20238600">
            <a:off x="0" y="4581360"/>
            <a:ext cx="1596960" cy="1872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t012488c5a47a9e65a7"/>
          <p:cNvPicPr/>
          <p:nvPr/>
        </p:nvPicPr>
        <p:blipFill>
          <a:blip r:embed="rId5"/>
          <a:stretch/>
        </p:blipFill>
        <p:spPr>
          <a:xfrm>
            <a:off x="468360" y="404640"/>
            <a:ext cx="8351640" cy="5688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u=3304028978,2480419606&amp;fm=23&amp;gp=0"/>
          <p:cNvPicPr/>
          <p:nvPr/>
        </p:nvPicPr>
        <p:blipFill>
          <a:blip r:embed="rId6"/>
          <a:srcRect l="50014" t="0" r="0" b="0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u=3304028978,2480419606&amp;fm=23&amp;gp=0"/>
          <p:cNvPicPr/>
          <p:nvPr/>
        </p:nvPicPr>
        <p:blipFill>
          <a:blip r:embed="rId7"/>
          <a:srcRect l="0" t="0" r="50014" b="4170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0.60833 0 E">
                                      <p:cBhvr>
                                        <p:cTn id="29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0.60833 0 E">
                                      <p:cBhvr>
                                        <p:cTn id="30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-0.55833 0 E">
                                      <p:cBhvr>
                                        <p:cTn id="30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38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ome"/>
          <p:cNvPicPr/>
          <p:nvPr/>
        </p:nvPicPr>
        <p:blipFill>
          <a:blip r:embed="rId1"/>
          <a:stretch/>
        </p:blipFill>
        <p:spPr>
          <a:xfrm>
            <a:off x="0" y="-155520"/>
            <a:ext cx="8921880" cy="70419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-299160" y="1372680"/>
            <a:ext cx="9303480" cy="2504880"/>
            <a:chOff x="-299160" y="1372680"/>
            <a:chExt cx="9303480" cy="2504880"/>
          </a:xfrm>
        </p:grpSpPr>
        <p:pic>
          <p:nvPicPr>
            <p:cNvPr id="54" name="图片 6" descr=""/>
            <p:cNvPicPr/>
            <p:nvPr/>
          </p:nvPicPr>
          <p:blipFill>
            <a:blip r:embed="rId2"/>
            <a:srcRect l="61190" t="6101" r="13235" b="54700"/>
            <a:stretch/>
          </p:blipFill>
          <p:spPr>
            <a:xfrm rot="20238600">
              <a:off x="0" y="1770120"/>
              <a:ext cx="159696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图片 5" descr=""/>
            <p:cNvPicPr/>
            <p:nvPr/>
          </p:nvPicPr>
          <p:blipFill>
            <a:blip r:embed="rId3"/>
            <a:srcRect l="20689" t="8894" r="21299" b="42882"/>
            <a:stretch/>
          </p:blipFill>
          <p:spPr>
            <a:xfrm rot="1188000">
              <a:off x="6892560" y="1630440"/>
              <a:ext cx="184932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6"/>
          <p:cNvSpPr/>
          <p:nvPr/>
        </p:nvSpPr>
        <p:spPr>
          <a:xfrm>
            <a:off x="330120" y="569880"/>
            <a:ext cx="881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our new home .Our home is big and b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又大又明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want to visit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629080" y="1515960"/>
            <a:ext cx="4535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edro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>
            <a:hlinkClick r:id="rId2" action="ppaction://hlinksldjump"/>
          </p:cNvPr>
          <p:cNvSpPr/>
          <p:nvPr/>
        </p:nvSpPr>
        <p:spPr>
          <a:xfrm>
            <a:off x="468360" y="549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ed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u=3304028978,2480419606&amp;fm=23&amp;gp=0"/>
          <p:cNvPicPr/>
          <p:nvPr/>
        </p:nvPicPr>
        <p:blipFill>
          <a:blip r:embed="rId3"/>
          <a:srcRect l="50014" t="0" r="0" b="0"/>
          <a:stretch/>
        </p:blipFill>
        <p:spPr>
          <a:xfrm>
            <a:off x="485784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u=3304028978,2480419606&amp;fm=23&amp;gp=0"/>
          <p:cNvPicPr/>
          <p:nvPr/>
        </p:nvPicPr>
        <p:blipFill>
          <a:blip r:embed="rId4"/>
          <a:srcRect l="0" t="0" r="50014" b="4170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" descr=""/>
          <p:cNvPicPr/>
          <p:nvPr/>
        </p:nvPicPr>
        <p:blipFill>
          <a:blip r:embed="rId5"/>
          <a:srcRect l="20689" t="8894" r="21299" b="42882"/>
          <a:stretch/>
        </p:blipFill>
        <p:spPr>
          <a:xfrm rot="1188000">
            <a:off x="7294320" y="4653000"/>
            <a:ext cx="1849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0.60833 0 E">
                                      <p:cBhvr>
                                        <p:cTn id="1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-0.55833 0 E">
                                      <p:cBhvr>
                                        <p:cTn id="1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13"/>
          <p:cNvSpPr/>
          <p:nvPr/>
        </p:nvSpPr>
        <p:spPr>
          <a:xfrm>
            <a:off x="6516720" y="1195560"/>
            <a:ext cx="1944720" cy="5760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r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6156360" y="249228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6588000" y="17845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e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6156360" y="3355920"/>
            <a:ext cx="1008000" cy="57636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7308720" y="17715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u: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7667640" y="2492280"/>
            <a:ext cx="1146240" cy="57636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ch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9"/>
          <p:cNvGrpSpPr/>
          <p:nvPr/>
        </p:nvGrpSpPr>
        <p:grpSpPr>
          <a:xfrm>
            <a:off x="395280" y="4437000"/>
            <a:ext cx="8353440" cy="2160720"/>
            <a:chOff x="395280" y="4437000"/>
            <a:chExt cx="8353440" cy="2160720"/>
          </a:xfrm>
        </p:grpSpPr>
        <p:sp>
          <p:nvSpPr>
            <p:cNvPr id="70" name="流程图: 可选过程 20"/>
            <p:cNvSpPr/>
            <p:nvPr/>
          </p:nvSpPr>
          <p:spPr>
            <a:xfrm>
              <a:off x="395280" y="4437000"/>
              <a:ext cx="8353440" cy="2160720"/>
            </a:xfrm>
            <a:prstGeom prst="flowChartAlternateProcess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537840" y="4596120"/>
              <a:ext cx="37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ake phrases: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让我们组个词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2"/>
          <p:cNvSpPr/>
          <p:nvPr/>
        </p:nvSpPr>
        <p:spPr>
          <a:xfrm>
            <a:off x="971640" y="5013360"/>
            <a:ext cx="172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的卧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个卧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在卧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916360" y="609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the 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916360" y="5084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y 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2916360" y="5589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wo bed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bedroom"/>
          <p:cNvPicPr/>
          <p:nvPr/>
        </p:nvPicPr>
        <p:blipFill>
          <a:blip r:embed="rId1"/>
          <a:stretch/>
        </p:blipFill>
        <p:spPr>
          <a:xfrm>
            <a:off x="395280" y="18900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11"/>
          <p:cNvPicPr/>
          <p:nvPr/>
        </p:nvPicPr>
        <p:blipFill>
          <a:blip r:embed="rId1"/>
          <a:srcRect l="0" t="0" r="0" b="62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D:\x19\3bU7\a bedroom.bmp"/>
          <p:cNvPicPr/>
          <p:nvPr/>
        </p:nvPicPr>
        <p:blipFill>
          <a:blip r:embed="rId2"/>
          <a:stretch/>
        </p:blipFill>
        <p:spPr>
          <a:xfrm>
            <a:off x="685800" y="838080"/>
            <a:ext cx="4800600" cy="3321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/>
          <p:cNvSpPr/>
          <p:nvPr/>
        </p:nvSpPr>
        <p:spPr>
          <a:xfrm>
            <a:off x="3124080" y="3124080"/>
            <a:ext cx="2819520" cy="1143000"/>
          </a:xfrm>
          <a:prstGeom prst="wedgeEllipseCallout">
            <a:avLst>
              <a:gd name="adj1" fmla="val -34268"/>
              <a:gd name="adj2" fmla="val -81222"/>
            </a:avLst>
          </a:prstGeom>
          <a:solidFill>
            <a:srgbClr val="ffcc99">
              <a:alpha val="22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Comic Sans MS"/>
              </a:rPr>
              <a:t>a 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838080" y="4495680"/>
            <a:ext cx="654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88920" y="4572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Wher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'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the bed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06480" y="5257800"/>
            <a:ext cx="83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It'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in the bed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5643720" y="990720"/>
            <a:ext cx="3273120" cy="1252080"/>
            <a:chOff x="5643720" y="990720"/>
            <a:chExt cx="3273120" cy="1252080"/>
          </a:xfrm>
        </p:grpSpPr>
        <p:sp>
          <p:nvSpPr>
            <p:cNvPr id="84" name="Text Box 8"/>
            <p:cNvSpPr/>
            <p:nvPr/>
          </p:nvSpPr>
          <p:spPr>
            <a:xfrm>
              <a:off x="5643720" y="99072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cc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1" lang="en-US" sz="3600" spc="-1" strike="noStrike">
                  <a:solidFill>
                    <a:srgbClr val="cc0000"/>
                  </a:solidFill>
                  <a:latin typeface="Comic Sans MS"/>
                </a:rPr>
                <a:t>e</a:t>
              </a:r>
              <a:r>
                <a:rPr b="1" lang="en-US" sz="3600" spc="-1" strike="noStrike">
                  <a:solidFill>
                    <a:srgbClr val="0000ff"/>
                  </a:solidFill>
                  <a:latin typeface="Comic Sans MS"/>
                </a:rPr>
                <a:t>d</a:t>
              </a: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roo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8"/>
            <p:cNvSpPr/>
            <p:nvPr/>
          </p:nvSpPr>
          <p:spPr>
            <a:xfrm>
              <a:off x="6930720" y="1600200"/>
              <a:ext cx="19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ff"/>
                  </a:solidFill>
                  <a:latin typeface="Comic Sans MS"/>
                </a:rPr>
                <a:t>卧室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8"/>
          <p:cNvSpPr/>
          <p:nvPr/>
        </p:nvSpPr>
        <p:spPr>
          <a:xfrm>
            <a:off x="5560920" y="2251080"/>
            <a:ext cx="31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e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 +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87480" y="1440"/>
            <a:ext cx="914400" cy="914400"/>
            <a:chOff x="87480" y="1440"/>
            <a:chExt cx="914400" cy="914400"/>
          </a:xfrm>
        </p:grpSpPr>
        <p:sp>
          <p:nvSpPr>
            <p:cNvPr id="88" name="Rectangle 14"/>
            <p:cNvSpPr/>
            <p:nvPr/>
          </p:nvSpPr>
          <p:spPr>
            <a:xfrm>
              <a:off x="87480" y="1440"/>
              <a:ext cx="91440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15" descr=""/>
            <p:cNvPicPr/>
            <p:nvPr/>
          </p:nvPicPr>
          <p:blipFill>
            <a:blip r:embed="rId3"/>
            <a:srcRect l="0" t="0" r="-332" b="148"/>
            <a:stretch/>
          </p:blipFill>
          <p:spPr>
            <a:xfrm>
              <a:off x="166680" y="92520"/>
              <a:ext cx="701640" cy="7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AutoShape 16"/>
          <p:cNvSpPr/>
          <p:nvPr/>
        </p:nvSpPr>
        <p:spPr>
          <a:xfrm rot="2220000">
            <a:off x="609120" y="1752480"/>
            <a:ext cx="2132280" cy="311400"/>
          </a:xfrm>
          <a:prstGeom prst="rightArrow">
            <a:avLst>
              <a:gd name="adj1" fmla="val 67778"/>
              <a:gd name="adj2" fmla="val 20558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11"/>
          <p:cNvPicPr/>
          <p:nvPr/>
        </p:nvPicPr>
        <p:blipFill>
          <a:blip r:embed="rId1"/>
          <a:srcRect l="0" t="0" r="0" b="62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601640" y="107964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, whe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’s the b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edroom, bedroo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’s in the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:\x19\3bU7\a bedroom.bmp"/>
          <p:cNvPicPr/>
          <p:nvPr/>
        </p:nvPicPr>
        <p:blipFill>
          <a:blip r:embed="rId2"/>
          <a:stretch/>
        </p:blipFill>
        <p:spPr>
          <a:xfrm>
            <a:off x="3351240" y="4038480"/>
            <a:ext cx="4876920" cy="226692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"/>
          <p:cNvGrpSpPr/>
          <p:nvPr/>
        </p:nvGrpSpPr>
        <p:grpSpPr>
          <a:xfrm>
            <a:off x="76320" y="0"/>
            <a:ext cx="4273560" cy="914400"/>
            <a:chOff x="76320" y="0"/>
            <a:chExt cx="4273560" cy="914400"/>
          </a:xfrm>
        </p:grpSpPr>
        <p:sp>
          <p:nvSpPr>
            <p:cNvPr id="95" name="Rectangle 6"/>
            <p:cNvSpPr/>
            <p:nvPr/>
          </p:nvSpPr>
          <p:spPr>
            <a:xfrm>
              <a:off x="1149120" y="75960"/>
              <a:ext cx="3200760" cy="6858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WordArt 7"/>
            <p:cNvSpPr txBox="1"/>
            <p:nvPr/>
          </p:nvSpPr>
          <p:spPr>
            <a:xfrm>
              <a:off x="1221120" y="151200"/>
              <a:ext cx="2881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Let's chant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pic>
          <p:nvPicPr>
            <p:cNvPr id="97" name="Picture 8" descr=""/>
            <p:cNvPicPr/>
            <p:nvPr/>
          </p:nvPicPr>
          <p:blipFill>
            <a:blip r:embed="rId3"/>
            <a:stretch/>
          </p:blipFill>
          <p:spPr>
            <a:xfrm>
              <a:off x="76320" y="0"/>
              <a:ext cx="98892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kitch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4000" y="62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kit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u=3304028978,2480419606&amp;fm=23&amp;gp=0"/>
          <p:cNvPicPr/>
          <p:nvPr/>
        </p:nvPicPr>
        <p:blipFill>
          <a:blip r:embed="rId2"/>
          <a:srcRect l="50014" t="0" r="0" b="0"/>
          <a:stretch/>
        </p:blipFill>
        <p:spPr>
          <a:xfrm>
            <a:off x="485928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u=3304028978,2480419606&amp;fm=23&amp;gp=0"/>
          <p:cNvPicPr/>
          <p:nvPr/>
        </p:nvPicPr>
        <p:blipFill>
          <a:blip r:embed="rId3"/>
          <a:srcRect l="0" t="0" r="50014" b="4170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5" descr=""/>
          <p:cNvPicPr/>
          <p:nvPr/>
        </p:nvPicPr>
        <p:blipFill>
          <a:blip r:embed="rId4"/>
          <a:srcRect l="20689" t="8894" r="21299" b="42882"/>
          <a:stretch/>
        </p:blipFill>
        <p:spPr>
          <a:xfrm rot="1188000">
            <a:off x="7294320" y="189000"/>
            <a:ext cx="1849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0.60833 0 E">
                                      <p:cBhvr>
                                        <p:cTn id="15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-0.55833 0 E">
                                      <p:cBhvr>
                                        <p:cTn id="16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395280" y="4243320"/>
            <a:ext cx="8353440" cy="1382760"/>
            <a:chOff x="395280" y="4243320"/>
            <a:chExt cx="8353440" cy="1382760"/>
          </a:xfrm>
        </p:grpSpPr>
        <p:sp>
          <p:nvSpPr>
            <p:cNvPr id="104" name="流程图: 可选过程 20"/>
            <p:cNvSpPr/>
            <p:nvPr/>
          </p:nvSpPr>
          <p:spPr>
            <a:xfrm>
              <a:off x="395280" y="4243320"/>
              <a:ext cx="8353440" cy="1382760"/>
            </a:xfrm>
            <a:prstGeom prst="flowChartAlternateProcess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4"/>
            <p:cNvSpPr/>
            <p:nvPr/>
          </p:nvSpPr>
          <p:spPr>
            <a:xfrm>
              <a:off x="537840" y="4344840"/>
              <a:ext cx="37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ake phrases: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让我们组个词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5" descr="kitchen"/>
          <p:cNvPicPr/>
          <p:nvPr/>
        </p:nvPicPr>
        <p:blipFill>
          <a:blip r:embed="rId1"/>
          <a:stretch/>
        </p:blipFill>
        <p:spPr>
          <a:xfrm>
            <a:off x="0" y="0"/>
            <a:ext cx="7921800" cy="4421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116000" y="47815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厨房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203640" y="47815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kit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rcRect l="29733" t="0" r="56245" b="0"/>
          <a:stretch/>
        </p:blipFill>
        <p:spPr>
          <a:xfrm>
            <a:off x="7921800" y="2567160"/>
            <a:ext cx="1269720" cy="16761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9"/>
          <p:cNvGrpSpPr/>
          <p:nvPr/>
        </p:nvGrpSpPr>
        <p:grpSpPr>
          <a:xfrm>
            <a:off x="395280" y="5475240"/>
            <a:ext cx="8353440" cy="1382760"/>
            <a:chOff x="395280" y="5475240"/>
            <a:chExt cx="8353440" cy="1382760"/>
          </a:xfrm>
        </p:grpSpPr>
        <p:sp>
          <p:nvSpPr>
            <p:cNvPr id="111" name="流程图: 可选过程 20"/>
            <p:cNvSpPr/>
            <p:nvPr/>
          </p:nvSpPr>
          <p:spPr>
            <a:xfrm>
              <a:off x="395280" y="5475240"/>
              <a:ext cx="8353440" cy="1382760"/>
            </a:xfrm>
            <a:prstGeom prst="flowChartAlternateProcess">
              <a:avLst/>
            </a:prstGeom>
            <a:solidFill>
              <a:srgbClr val="bbe0e3"/>
            </a:solidFill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538200" y="5576760"/>
              <a:ext cx="377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nswer the questi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2"/>
          <p:cNvSpPr/>
          <p:nvPr/>
        </p:nvSpPr>
        <p:spPr>
          <a:xfrm>
            <a:off x="611280" y="611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re a dog in the kitc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508720" y="6093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, ther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24000" y="3301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kit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09 0.00116 L -0.50659 0.00116 E">
                                      <p:cBhvr>
                                        <p:cTn id="18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living ro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468360" y="549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iving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u=3304028978,2480419606&amp;fm=23&amp;gp=0"/>
          <p:cNvPicPr/>
          <p:nvPr/>
        </p:nvPicPr>
        <p:blipFill>
          <a:blip r:embed="rId2"/>
          <a:srcRect l="50014" t="0" r="0" b="0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u=3304028978,2480419606&amp;fm=23&amp;gp=0"/>
          <p:cNvPicPr/>
          <p:nvPr/>
        </p:nvPicPr>
        <p:blipFill>
          <a:blip r:embed="rId3"/>
          <a:srcRect l="0" t="0" r="50014" b="4170"/>
          <a:stretch/>
        </p:blipFill>
        <p:spPr>
          <a:xfrm>
            <a:off x="-28584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6" descr=""/>
          <p:cNvPicPr/>
          <p:nvPr/>
        </p:nvPicPr>
        <p:blipFill>
          <a:blip r:embed="rId4"/>
          <a:srcRect l="61190" t="6101" r="13235" b="54700"/>
          <a:stretch/>
        </p:blipFill>
        <p:spPr>
          <a:xfrm rot="20238600">
            <a:off x="0" y="4581360"/>
            <a:ext cx="15969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0.60833 0 E">
                                      <p:cBhvr>
                                        <p:cTn id="20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-0.55833 0 E">
                                      <p:cBhvr>
                                        <p:cTn id="20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3:57:55Z</dcterms:created>
  <dc:creator/>
  <dc:description/>
  <dc:language>en-US</dc:language>
  <cp:lastModifiedBy/>
  <dcterms:modified xsi:type="dcterms:W3CDTF">2016-12-27T03:59:19Z</dcterms:modified>
  <cp:revision>1</cp:revision>
  <dc:subject/>
  <dc:title/>
</cp:coreProperties>
</file>